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eiti SC Light"/>
              </a:rPr>
              <a:t>Averag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eiti SC Light"/>
              </a:rPr>
              <a:t>：平均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将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中的偶数添加到数组中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二十一章：数组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82680" y="1028880"/>
            <a:ext cx="1089648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定义三个新类，分别名为公司（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Compan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、部门（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Departments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、员工（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Person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。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Compan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包含关于公司的信息，比如公司名称、公司简介、注册资金、公司性质等，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Departments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包含关于部门信息，比如部门名，营业额；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Person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包含员工信息，比如姓名，年龄，工资。定义上述的三个类，并编写方法实现下列任务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创建一个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Departments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，并可以给部门添加和删除员工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创建一个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Compan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，并可以给公司组建和解散部门，统计该公司有多少部门，统计该公司有多少员工，统计该公司总营业额，统计该公司员工平均工资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NSArray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48800" y="2438280"/>
            <a:ext cx="1149372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undation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数组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NSArray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是有序的对象集合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Arra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只能存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对象，而不能存储像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n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floa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这些基本数据类型，但是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兼容，所以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程序中，仍然可以使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数组来存储基本数据类型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Arra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一旦创建便不可以再对它就进行更改，如果要进行对数组的增、删、改等操作的话，需要使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Arra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子类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MutableArra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来创建对象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Array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常用方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50164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+arrayWithObjects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使用一组对象创建一个数组（注：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1,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该方法可以接收</a:t>
            </a:r>
            <a:r>
              <a:rPr b="0" lang="zh-CN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可变数目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参数。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2,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最后一个值指定为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il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表示参数列表结束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objectAtIndex: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用数组索引检索数组中的元素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count: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返回数组元素个数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NSMutableArray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323800"/>
            <a:ext cx="10464840" cy="416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MutableArra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是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Arra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子类，继承了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Arra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所有方法，并添加了新的方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MutableArray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用来处理可变数组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MutableArray</a:t>
            </a: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常用方法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2234880"/>
            <a:ext cx="10464840" cy="714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+arrayWithCapacity: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为可变数组指定初始容量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-addObject: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向可变数组的末尾添加一个元素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-addObjectsFromArray: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将另外一个数组的所有元素添加到调用该方法的数组中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-insertObject:atIndex: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将一个元素添加到数组指定的位置上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-removeObjectAtIndex: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移除数组中指定位置上元素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-removeObject: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移除数组中指定元素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快速遍历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"/>
          <p:cNvSpPr/>
          <p:nvPr/>
        </p:nvSpPr>
        <p:spPr>
          <a:xfrm>
            <a:off x="1828800" y="2730600"/>
            <a:ext cx="9334440" cy="3454200"/>
          </a:xfrm>
          <a:prstGeom prst="roundRect">
            <a:avLst>
              <a:gd name="adj" fmla="val 5514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r(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名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*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名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in 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需要遍历的对象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{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//. . 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}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例：制作地址簿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3800" y="1981080"/>
            <a:ext cx="12496680" cy="731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地址卡片（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AddressCard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变量：姓名（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name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、邮箱（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email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方法：打印（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print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地址本（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AddressBook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变量： 地址本名字（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name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，若干个地址卡片（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cards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方法：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初始化方法：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initWithName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添加一个地址卡片到地址本中：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addCard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返回这个地址本中有多少个地址卡片：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entries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打印这个地址本中所有的地址卡片：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list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根据一个姓名来查找一个地址卡片：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findCardByName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根据一个姓名来删除一个地址卡片：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moveCardByName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253800" y="1066680"/>
            <a:ext cx="12496680" cy="822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成绩（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core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变量：课程名称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(name)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、分数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(number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学生（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tudent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变量：学号（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tuId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、姓名（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name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、年龄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(age)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、若干个成绩（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cores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方法：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打印各门功课的成绩：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printScor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返回不及格的课程名称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i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班级（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Banji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变量：班级名字（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name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，若干个学生（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students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方法：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初始化方法：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initWithNam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添加一个学生到班级中：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addStud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返回这个班级中有多少个学生：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entri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1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打印这个班级中所有的学生：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lis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1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根据一个学生的姓名来查找一个学生：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findStudentByNam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buSzPct val="100000"/>
              <a:buBlip>
                <a:blip r:embed="rId1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根据一个学生的姓名来删除一个学生：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removeStudentByNam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79440" y="2324160"/>
            <a:ext cx="1222992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定义二个新类，分别名为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So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PlayLis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。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So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包含着关于歌曲的信息，比如歌曲名、艺术家、专辑名、歌曲长度等，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PlayLis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包含播放列表名和一个歌曲的集合；定义上述的二个类，并编写方法实现下列任务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创建一个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So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，并设置其信息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创建一个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PlayLis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，并对播放列表添加和删除歌曲。添加时，如果播放列表中已经存在了要添加的歌曲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是否相同的依据是歌曲名是否相同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就不添加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